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6FE-2084-400F-AEC1-7AF8214C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161-9626-48A8-880C-3C20291E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6AE-928A-4CFB-9B08-3DEF001D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2CB-25A5-4B6A-ABAC-80EE792C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68D8-F870-4843-8340-275A7EDE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07B3-A602-4D00-AAB0-6488BADE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4460-834F-4269-AAAF-D778595E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A796-75FD-4F01-92F7-1C3D319A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BB81-5119-4F02-8443-3818DFE3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8D93-D194-4BF8-AFAB-3DC19CF3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A296-15EF-46E9-852A-CF3EA68A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73A-1B31-4539-83A6-7B733142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0955-DBE7-44A5-AE0B-1432C0CF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C352-9106-45E0-B9E8-3AD22148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EA17-301A-4500-9F74-3E42A2CF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5B08-8252-407C-9D45-DC7E8D9D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1CCF-1CFF-4C89-81AC-2C28B202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BEE6-6F8F-457F-8E40-7B521399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6029-383D-4D0B-AE7E-03FDB93C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8F42B-92B8-4EA1-ACC2-D7624341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712B-325D-4E7E-A066-3A0D1083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B39F-6B5B-4FBA-BCA8-AABFDD7B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372-BC17-4818-8142-FF875AE1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F68D-F482-4AE0-B292-EC3C242D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30D6-3D27-42B9-B876-CB33CFF6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A628E-EC53-4635-8E56-5F639382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E387-83FB-4E2D-B2A5-C4E9E3C8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85590-37A4-4D3C-9E30-38ADE46E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CD65-C6A8-4D19-9C31-2DD83F92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96E14-3178-40B6-8176-0F5049C9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A4752-64BC-48D8-A644-1C633DDB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6FD89-1835-43FD-912F-81A03EFA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F3289-9BC9-4D66-A383-1AC4D15F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C35-79E5-44E0-B0C0-4EE14586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80AED-2968-425C-AFFA-89617752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BF801-E0E7-4CFE-939C-89EE68A5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57EF0-A1E3-4287-85B3-4B697E39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5F0DC-C74D-4037-BB1D-349902B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A44A2-90D0-4C01-8D4F-75EE0F03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DB656-B4C2-4EDC-8F3D-43C22E19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3265-22F1-429A-BFDE-C0B3D51C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43F59-B5EF-4834-A8C6-9986314E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CDD69-0D99-40C1-8C8A-6058C9F6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45764-9D3E-4855-B68D-525FDE11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D12-0617-4BFA-9BA0-093849BD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00FD6-0CAC-471B-9533-5AEDCEBB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3744F-0D8C-42CF-A753-F1CCD448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17CEE-DFA4-47B1-93FA-39B98B1B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44FD1-0386-4062-8562-AEBBA1F0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B0C30-93C8-4C5D-910C-A73697AE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D0F49-2727-4F7F-A779-A1E40664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7F5EB-8ACB-4291-9105-3B6A17D4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8D3E-3B2F-42EA-AE8A-F834AF8A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DB491-7EB9-4028-81E3-5C9336CC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1F35A-DDF0-49FC-9FA0-DB29EBF7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550-7CC2-4CFF-892C-4498F7CE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225E1-9A7C-4EC0-8E2B-286522AE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CA9E0-55E1-426A-95CD-AE6647B3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75123-7C87-4077-A472-B8AA4CA0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A2488-A44F-4537-8B67-3C0011FE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6323D-A52C-4300-972B-6DE6103E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99168-0A81-43C5-B866-6407E54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2DBC9-EB45-4091-B643-AEEA5D9E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7175A-3BCC-4EC1-9AEC-B677F711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D1B09-9F43-4AB2-B4AE-D2B1A2CE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95CB1-2214-4F64-9B17-7682125E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146-969A-4007-BD9C-B9787FAA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B9680-AACD-4C9A-8808-DB47E884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667E0-993B-44EE-97BD-4DEFDB45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1A5E-FB97-4B10-AED0-FCCE79E0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95C-4A5A-4275-81BE-74B4F6D8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E19-B78C-4E45-AEC7-972D2D18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6D40-72B7-4640-9939-B51113B95DC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30CF-99FD-4020-BA67-526DD00DB80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D693-A914-4768-9390-1D3C6CE2149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90E0-286C-4CEB-AD0C-5A337440DE91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88C8-20A3-455F-8B21-00A37766C84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8F7D-6E5D-4BB0-BE5D-094F7F8F643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F1C-67A3-40B4-8213-07EDF8D038F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3F9B-639B-40EC-AF08-5BCCDC29E96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2A47-C22D-4E80-9098-12FF9A58CDD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C197-1974-457D-80FD-2379490BAEA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001E-F5B0-4B90-AB3A-AD66D48EF18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ABA0-4149-4F47-8A29-4150102C34C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emanuel.dantas@previdencia.gov.br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9922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Calibri"/>
              </a:rPr>
              <a:t>REAJUSTAMENTO D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Calibri"/>
              </a:rPr>
              <a:t>BENEFÍCI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95160" y="2707920"/>
            <a:ext cx="97221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 reajuste dos benefícios, em 2017, foi editado pela Portaria nº 08, de 13 de janeiro de 201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623880" y="1267920"/>
            <a:ext cx="9793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Índice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 reajustamento: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6,5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imit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mínim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o salário de contribuição e salário de benefício: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$ 937,00, reajuste de 6,4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imit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máxim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o salário de contribuição e salário de benefício: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$ 5.531,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50440" y="765000"/>
            <a:ext cx="9866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FATOR DE REAJUSTE DOS BENEFÍCIOS CONCEDIDOS DE ACORDO COM AS RESPECTIVAS DATAS DE INÍCIO, APLICÁVEL A PARTIR DE JANEIR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Imagem 2" descr=""/>
          <p:cNvPicPr/>
          <p:nvPr/>
        </p:nvPicPr>
        <p:blipFill>
          <a:blip r:embed="rId1"/>
          <a:stretch/>
        </p:blipFill>
        <p:spPr>
          <a:xfrm>
            <a:off x="407880" y="1484280"/>
            <a:ext cx="10009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tângulo 4"/>
          <p:cNvSpPr/>
          <p:nvPr/>
        </p:nvSpPr>
        <p:spPr>
          <a:xfrm>
            <a:off x="1631880" y="907920"/>
            <a:ext cx="86407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ABELA DE CONTRIBUIÇÃO DOS SEGURADOS EMPREGADO, EMPREGADO DOMÉSTICO E TRABALHADOR AVULSO, PARA PAGAMENTO DE REMUNERAÇÃO A PARTIR DE 1º DE JANEIRO DE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Imagem 3" descr=""/>
          <p:cNvPicPr/>
          <p:nvPr/>
        </p:nvPicPr>
        <p:blipFill>
          <a:blip r:embed="rId1"/>
          <a:stretch/>
        </p:blipFill>
        <p:spPr>
          <a:xfrm>
            <a:off x="407880" y="2565360"/>
            <a:ext cx="10009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07520" y="1773360"/>
            <a:ext cx="10728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A partir de 1º de janeiro de 2017, não terão valores inferiores a 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R$ 937,00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, os benefício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GP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Benefícios Assistenciai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ncargos Previdenciários da União - EP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558440" y="907920"/>
            <a:ext cx="892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Seletividade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do auxílio-reclusão e salário-famíli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salário de contribuição igual ou inferior a 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R$ 1.292,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Cotas do salário famíli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 - Para o segurado com remuneração mensal não superi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859,88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R$ 44,09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I - Para o segurado com remuneração mensal superior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859,88 e igual ou inferior 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$ 1.292,43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R$ 31,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92240" y="26028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uito obrigad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Emanuel de Araújo Dan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retor do Regime Geral de Previdência Social/SPPS/M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pt-BR" sz="3200" spc="-1" strike="noStrike" u="sng">
                <a:solidFill>
                  <a:srgbClr val="9454c3"/>
                </a:solidFill>
                <a:uFillTx/>
                <a:latin typeface="Calibri"/>
                <a:hlinkClick r:id="rId1"/>
              </a:rPr>
              <a:t>emanuel.dantas@previdencia.gov.b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one: (61) 2021-52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6-11-07T18:06:02Z</cp:lastPrinted>
  <dcterms:modified xsi:type="dcterms:W3CDTF">2017-02-14T13:17:09Z</dcterms:modified>
  <cp:revision>352</cp:revision>
  <dc:subject/>
  <dc:title>Demografia</dc:title>
</cp:coreProperties>
</file>